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096-F574-4BAE-9E86-26A7C882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B58-8704-4908-B0F8-72E82B8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913-6A15-4BE6-BA2F-85A61D26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6D6-232E-4112-93BF-FC5EE1AE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4C10-E154-4A46-9158-9A9FF813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E65-C9E1-4E18-8D69-6C268E51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0D4E-C688-4CEA-A184-C324220A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55CF-8E3E-4080-9A0E-11D38AF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39D4-09B3-46C1-A5D6-CA268BA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519B-41D2-42FD-A965-A8E95F1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3417-82F7-4ED2-8D19-6DB6F1F5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982-9032-49C3-A7F7-D39B2C9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86E6-C930-43AB-9E31-9F1FAAD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910-B9BC-4B17-984B-EA73F01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1F9-FFC4-4204-929F-CCFC6699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00FC-6E10-4515-9981-D6E438C5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6D82-DF3D-4C95-9E2F-5BBF1154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00B-FE57-4465-89C2-D00D9518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8CF-0343-4ACD-8F28-ECA617DB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FD6-20B2-4CD5-B83C-FBBE7FE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EB6-E7DB-4EDE-AF3A-B8202FA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1E8-0E76-40E9-ACC9-BE1EA14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FFE-4551-4D7C-ACA4-8B4DEA5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DC3-01E7-4E9A-85A8-79168F3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D1D-CE8D-4C2E-9285-04E91E03E41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2235-A8F0-40BA-8E89-247115A71BE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en.wikipedia.org/wiki/Gas-liquid_chromatography" TargetMode="External"/><Relationship Id="rId3" Type="http://schemas.openxmlformats.org/officeDocument/2006/relationships/hyperlink" Target="http://en.wikipedia.org/wiki/Mass_spectrometry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5897"/>
                </a:solidFill>
                <a:latin typeface="Palatino Linotype"/>
              </a:rPr>
              <a:t>The Tools of 21</a:t>
            </a:r>
            <a:r>
              <a:rPr b="0" lang="en-US" sz="8000" spc="-1" strike="noStrike" baseline="30000">
                <a:solidFill>
                  <a:srgbClr val="2f5897"/>
                </a:solidFill>
                <a:latin typeface="Palatino Linotype"/>
              </a:rPr>
              <a:t>st</a:t>
            </a:r>
            <a:r>
              <a:rPr b="0" lang="en-US" sz="8000" spc="-1" strike="noStrike">
                <a:solidFill>
                  <a:srgbClr val="2f5897"/>
                </a:solidFill>
                <a:latin typeface="Palatino Linotype"/>
              </a:rPr>
              <a:t> Century Science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91" name="Picture 2" descr="C:\Users\Kenan Computer\AppData\Local\Microsoft\Windows\Temporary Internet Files\Content.IE5\GL4AS8ZO\MC900215314[1].wmf"/>
          <p:cNvPicPr/>
          <p:nvPr/>
        </p:nvPicPr>
        <p:blipFill>
          <a:blip r:embed="rId1"/>
          <a:stretch/>
        </p:blipFill>
        <p:spPr>
          <a:xfrm>
            <a:off x="3382920" y="4038480"/>
            <a:ext cx="237816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897"/>
                </a:solidFill>
                <a:latin typeface="Palatino Linotype"/>
              </a:rPr>
              <a:t>21</a:t>
            </a:r>
            <a:r>
              <a:rPr b="0" lang="en-US" sz="3200" spc="-1" strike="noStrike" baseline="30000">
                <a:solidFill>
                  <a:srgbClr val="2f5897"/>
                </a:solidFill>
                <a:latin typeface="Palatino Linotype"/>
              </a:rPr>
              <a:t>st</a:t>
            </a:r>
            <a:r>
              <a:rPr b="0" lang="en-US" sz="3200" spc="-1" strike="noStrike">
                <a:solidFill>
                  <a:srgbClr val="2f5897"/>
                </a:solidFill>
                <a:latin typeface="Palatino Linotype"/>
              </a:rPr>
              <a:t> Century Research labs are busy places with specialized protocols and equipment.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0" name="Content Placeholder 3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Content Placeholder 5" descr=""/>
          <p:cNvPicPr/>
          <p:nvPr/>
        </p:nvPicPr>
        <p:blipFill>
          <a:blip r:embed="rId2"/>
          <a:stretch/>
        </p:blipFill>
        <p:spPr>
          <a:xfrm>
            <a:off x="68904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5897"/>
                </a:solidFill>
                <a:latin typeface="Palatino Linotype"/>
              </a:rPr>
              <a:t>The End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anks to 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arol Kent – Molecular Biologist for Wake Forest Baptist Medical Center’s Pathology and Lipid Science Departme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esented by : Martha Tedrow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C:\Users\Kenan Computer\AppData\Local\Microsoft\Windows\Temporary Internet Files\Content.IE5\6CP8DF6J\MC900290649[1].wmf"/>
          <p:cNvPicPr/>
          <p:nvPr/>
        </p:nvPicPr>
        <p:blipFill>
          <a:blip r:embed="rId1"/>
          <a:stretch/>
        </p:blipFill>
        <p:spPr>
          <a:xfrm>
            <a:off x="3281400" y="3733920"/>
            <a:ext cx="2609640" cy="266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5897"/>
                </a:solidFill>
                <a:latin typeface="Palatino Linotype"/>
              </a:rPr>
              <a:t>In Pathology and Lipid Science at Wake Forest Baptist Medical Center’s Biomedical Research Park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4680" y="2514600"/>
            <a:ext cx="40417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Mice and Monkeys are used to study how fats in a diet effect health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iotech scientists called “investigators” use many complex and simple tools in their research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4" name="Picture 2" descr="C:\Users\Kenan Computer\AppData\Local\Microsoft\Windows\Temporary Internet Files\Content.IE5\GL4AS8ZO\MP900314407[1].jpg"/>
          <p:cNvPicPr/>
          <p:nvPr/>
        </p:nvPicPr>
        <p:blipFill>
          <a:blip r:embed="rId1"/>
          <a:stretch/>
        </p:blipFill>
        <p:spPr>
          <a:xfrm>
            <a:off x="4800600" y="3429000"/>
            <a:ext cx="3657600" cy="2266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6" name="Picture 3" descr="C:\Users\Kenan Computer\AppData\Local\Microsoft\Windows\Temporary Internet Files\Content.IE5\HNMCV2AK\MP900432870[1].jpg"/>
          <p:cNvPicPr/>
          <p:nvPr/>
        </p:nvPicPr>
        <p:blipFill>
          <a:blip r:embed="rId2"/>
          <a:stretch/>
        </p:blipFill>
        <p:spPr>
          <a:xfrm>
            <a:off x="5029200" y="2619360"/>
            <a:ext cx="3124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7240" y="266400"/>
            <a:ext cx="300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8920" y="272520"/>
            <a:ext cx="4995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ese tools help pathologist study the effects of Polyunsaturated Monounsaturated and Saturated fats on the heart and arterie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Molecular biologists </a:t>
            </a: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tudy diseases lik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Atherosclerosis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07240" y="2438280"/>
            <a:ext cx="30081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5943600" y="2317680"/>
            <a:ext cx="3048120" cy="36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897"/>
                </a:solidFill>
                <a:latin typeface="Palatino Linotype"/>
              </a:rPr>
              <a:t>Investigators use scientific equipment such as electronic scales to measure accurately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This molecular biologist is measuring a food sample that will be used to feed transgenic mice and monkeys in a laboratory.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he measures the amount of each type in grams.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3" name="Content Placeholder 8" descr=""/>
          <p:cNvPicPr/>
          <p:nvPr/>
        </p:nvPicPr>
        <p:blipFill>
          <a:blip r:embed="rId1"/>
          <a:stretch/>
        </p:blipFill>
        <p:spPr>
          <a:xfrm>
            <a:off x="689040" y="4821120"/>
            <a:ext cx="98748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Do these look familiar?</a:t>
            </a:r>
            <a:br>
              <a:rPr sz="2800"/>
            </a:br>
            <a:r>
              <a:rPr b="0" lang="en-US" sz="2600" spc="-1" strike="noStrike">
                <a:solidFill>
                  <a:srgbClr val="2f5897"/>
                </a:solidFill>
                <a:latin typeface="Palatino Linotype"/>
              </a:rPr>
              <a:t>Common equipment is also important in biotech research </a:t>
            </a:r>
            <a:endParaRPr b="0" lang="en-US" sz="2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Content Placeholder 7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6" descr=""/>
          <p:cNvPicPr/>
          <p:nvPr/>
        </p:nvPicPr>
        <p:blipFill>
          <a:blip r:embed="rId2"/>
          <a:stretch/>
        </p:blipFill>
        <p:spPr>
          <a:xfrm>
            <a:off x="685800" y="1670040"/>
            <a:ext cx="2454120" cy="184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5029200" y="409104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5029200" y="152388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3"/>
          <p:cNvSpPr/>
          <p:nvPr/>
        </p:nvSpPr>
        <p:spPr>
          <a:xfrm>
            <a:off x="15228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ortar and pestle’s grind foo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5029200" y="3581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est tube racks  hold culture tub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228600" y="6248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asks and tubing  remove and store liquid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TextBox 16"/>
          <p:cNvSpPr/>
          <p:nvPr/>
        </p:nvSpPr>
        <p:spPr>
          <a:xfrm flipH="1">
            <a:off x="5028480" y="6248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 hotplate heats food samp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 advTm="1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5897"/>
                </a:solidFill>
                <a:latin typeface="Palatino Linotype"/>
              </a:rPr>
              <a:t>Other tools are specific to measuring exact amounts of a substance: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Content Placeholder 6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5" descr=""/>
          <p:cNvPicPr/>
          <p:nvPr/>
        </p:nvPicPr>
        <p:blipFill>
          <a:blip r:embed="rId2"/>
          <a:stretch/>
        </p:blipFill>
        <p:spPr>
          <a:xfrm>
            <a:off x="68904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 flipH="1">
            <a:off x="1098000" y="6172200"/>
            <a:ext cx="65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oth of these measure very small precise amounts of liquids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These shake, roll, and</a:t>
            </a:r>
            <a:br>
              <a:rPr sz="5400"/>
            </a:b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spin samples.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5743440" y="2630520"/>
            <a:ext cx="1847880" cy="246528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6" descr=""/>
          <p:cNvPicPr/>
          <p:nvPr/>
        </p:nvPicPr>
        <p:blipFill>
          <a:blip r:embed="rId2"/>
          <a:stretch/>
        </p:blipFill>
        <p:spPr>
          <a:xfrm>
            <a:off x="365040" y="2346480"/>
            <a:ext cx="4041720" cy="3033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380880" y="54864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 Vortex and Roll Plate Machin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5715000" y="5334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entrifug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The gas spectrometer examines molecular particles in nanometers. 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5141880" y="1828800"/>
            <a:ext cx="3051360" cy="406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This machin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combines the features of 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gas-liquid chromatography</a:t>
            </a: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 and 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mass spectrometry</a:t>
            </a: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 to identify different substances within a test sample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Scientific protocols are the procedures of the experiment. All global research facilities use the metric system as part of their scientific protocol.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541008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1:27:38Z</dcterms:created>
  <dc:creator>Kenan Computer</dc:creator>
  <dc:description/>
  <dc:language>en-US</dc:language>
  <cp:lastModifiedBy>Lisa Bianco Hibler</cp:lastModifiedBy>
  <dcterms:modified xsi:type="dcterms:W3CDTF">2013-11-07T11:47:10Z</dcterms:modified>
  <cp:revision>97</cp:revision>
  <dc:subject/>
  <dc:title>The Tools of 21st Century Science</dc:title>
</cp:coreProperties>
</file>